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6280"/>
        <c:axId val="34282757"/>
      </c:barChart>
      <c:catAx>
        <c:axId val="4626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82757"/>
        <c:crosses val="autoZero"/>
        <c:auto val="1"/>
        <c:lblAlgn val="ctr"/>
        <c:lblOffset val="100"/>
        <c:noMultiLvlLbl val="0"/>
      </c:catAx>
      <c:valAx>
        <c:axId val="34282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6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589-DD25-47C4-A319-4B053081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D52-AD75-46E7-A9F0-387DF8DC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900-B340-47FC-94CF-79DBEC65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D57-AACD-4226-BAD4-061E47E1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EC5-3AE0-43C5-9E9A-A0C69DEB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5AB-148C-4367-B979-98726DC4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378-5F56-42C5-97B4-658C0A3A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485-F535-407D-9D92-B649E2BD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86F-669D-4E01-9773-E3349027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F252-785E-45B2-9D0A-3C4238D7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001-1918-495D-A182-DA01AC54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ED3-E147-47FE-9888-89317895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E5365-7FF2-4BFF-A015-5C7F953B46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